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8D9-C35F-4FB4-B8A6-AC130773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E6D-F27C-4B26-BB7F-C722F39E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FBC-0455-464D-8B5E-B410DD0F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6C1-FCA7-452B-90A0-25208461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104-D047-49A2-91D3-2740524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919-C8B2-4930-A3F4-D67B708C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397-1F8B-45D8-AC04-F527DDE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CA3-26F2-4CFD-886A-C7B72872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F52-9373-4D86-AB2D-58DEF31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4FC-588A-47AF-8AFA-C09FCFF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F19-C20D-49D8-A49A-E95A556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AA0-4369-4636-8DAB-36877C9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ADC-0387-4724-A0E6-181039DE9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SEASE FREQUENCY AND EFFEC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83808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76212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654" r="0" b="12580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1143000" y="838080"/>
            <a:ext cx="6934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1143000" y="9907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579" r="0" b="1181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83808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7621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7610" r="0" b="15559"/>
          <a:stretch/>
        </p:blipFill>
        <p:spPr>
          <a:xfrm>
            <a:off x="1143000" y="1066680"/>
            <a:ext cx="7010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1766" r="0" b="31005"/>
          <a:stretch/>
        </p:blipFill>
        <p:spPr>
          <a:xfrm>
            <a:off x="685800" y="8380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2316" r="0" b="31456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705" r="0" b="75341"/>
          <a:stretch/>
        </p:blipFill>
        <p:spPr>
          <a:xfrm>
            <a:off x="1066680" y="19810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16" r="0" b="39404"/>
          <a:stretch/>
        </p:blipFill>
        <p:spPr>
          <a:xfrm>
            <a:off x="990720" y="9907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1066680" y="91440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791" r="0" b="28589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91440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7621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22:27:50Z</dcterms:modified>
  <cp:revision>95</cp:revision>
  <dc:subject/>
  <dc:title>The Art in the State of the Art</dc:title>
</cp:coreProperties>
</file>